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08003"/>
        <c:axId val="19872238"/>
      </c:barChart>
      <c:catAx>
        <c:axId val="83908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72238"/>
        <c:crosses val="autoZero"/>
        <c:auto val="1"/>
        <c:lblAlgn val="ctr"/>
        <c:lblOffset val="100"/>
        <c:noMultiLvlLbl val="0"/>
      </c:catAx>
      <c:valAx>
        <c:axId val="19872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08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0DA-7CA2-4B0B-9726-FFDB9CDC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515-0CEA-443D-86D6-3F648D9B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9EF-B6F6-42C5-BBC4-2505CCBF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CB1-018F-45AB-A25C-6821BBDD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761-E8FB-418D-93D2-B5B1764B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576-9811-4D17-9816-5CC408C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910-D045-4C6B-8FBA-D0E814FA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D89-379F-4DB9-898A-3CEFC2B0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AAF-04A4-4399-ADCB-62826042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D4C-5DF5-4DF3-872D-D362138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1A4-C155-4536-9432-0FDAD556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023-190C-41DB-B9EF-F975D69C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D5780-6B5C-4301-A5F4-A7D0D21ED4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