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13751"/>
        <c:axId val="56518429"/>
      </c:barChart>
      <c:catAx>
        <c:axId val="47213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18429"/>
        <c:crosses val="autoZero"/>
        <c:auto val="1"/>
        <c:lblAlgn val="ctr"/>
        <c:lblOffset val="100"/>
        <c:noMultiLvlLbl val="0"/>
      </c:catAx>
      <c:valAx>
        <c:axId val="56518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13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AA2-4424-42B9-B055-F247F7E2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DD90-CA82-4E57-A483-BAC56C70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750-9ABC-480C-B776-A43895A8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4D4A-0FA5-4764-B633-C8A4600C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6D6-8CA6-485C-8DEE-77FB8EB3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341-BDE5-4615-80F0-E032D180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28D-F8A7-4F6D-93A0-6918CA16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A9B-0A22-46A9-B14E-DB54DB50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B54-E815-4092-AB45-B606FEFF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991-A086-4D71-997B-60A27BC1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C8F-C14D-42AE-8D87-16BC496B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72D-B9FA-45DC-AFC0-C2F40318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D2408-AF8B-4CEC-AAAC-FA7CEB6612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