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9568282"/>
        <c:axId val="75466185"/>
      </c:barChart>
      <c:catAx>
        <c:axId val="3956828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5466185"/>
        <c:crosses val="autoZero"/>
        <c:auto val="1"/>
        <c:lblAlgn val="ctr"/>
        <c:lblOffset val="100"/>
        <c:noMultiLvlLbl val="0"/>
      </c:catAx>
      <c:valAx>
        <c:axId val="7546618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956828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8C78C-8631-4D4F-B0DB-A246346EC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EAE81-858B-416A-8AC7-A205448F1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4EFD2-BD91-403E-9924-72E48174A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85E7A-3C4F-402F-9344-64A250AED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59171-0C5F-4452-AA9F-9FFA6CEA9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65113-CCA2-49CF-8EBD-C12BC0D52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2E454-2C99-4CC3-8F75-F2E9363E6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676B7-8FD9-424B-A0A2-A0AF576FB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1F152-B6A9-4A60-A712-C4F59125D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2D5B2-CD2E-4543-8EBB-666ABC5B2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9BBC4-8023-4444-AFE4-91C07D2A3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0C8BF-0959-48BD-9AFD-63A2F0B1E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0D5EC5-E62D-46DE-B4F7-CC135895183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