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16928"/>
        <c:axId val="52048914"/>
      </c:barChart>
      <c:catAx>
        <c:axId val="84916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48914"/>
        <c:crosses val="autoZero"/>
        <c:auto val="1"/>
        <c:lblAlgn val="ctr"/>
        <c:lblOffset val="100"/>
        <c:noMultiLvlLbl val="0"/>
      </c:catAx>
      <c:valAx>
        <c:axId val="52048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16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D9E-B05A-473A-A51F-8E21AF01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792-558F-4491-B580-C74ECCFC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660-4BA9-43E3-A4AA-2190ADB9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288-1CF1-443C-9411-51749162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480-EB7B-4F4B-834D-28502D4A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42D-55D1-4201-A1A7-FD82C73F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746-433F-44BC-9246-4DE24708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139-6726-4349-8A05-6B5F9A22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C30-A0B0-4231-8352-F4A9C960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77E-F171-4F6C-B58D-3F114E8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DE1-1182-44E6-B0BF-A3A770A1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D67-185D-437D-A966-DAB9CF0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BB3D2-2194-4B9E-9C10-A0A4520EE5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