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95969"/>
        <c:axId val="20362443"/>
      </c:barChart>
      <c:catAx>
        <c:axId val="90395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2443"/>
        <c:crosses val="autoZero"/>
        <c:auto val="1"/>
        <c:lblAlgn val="ctr"/>
        <c:lblOffset val="100"/>
        <c:noMultiLvlLbl val="0"/>
      </c:catAx>
      <c:valAx>
        <c:axId val="20362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95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CAF-B7D5-4CA3-BBE3-8811B423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4A4-C654-498A-82AA-F7CA96A1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633-B254-4587-91B3-3E567DFF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2DC-ABDA-4031-9FA9-D3CBB2AC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A76-1B13-45D0-A390-BC85A8DD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F61-96B7-442D-AB7E-F072796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EAC-7A72-478E-9E10-BDCB1C86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FD3-8CF3-4417-B54E-EAB7605E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731-2475-4A84-90E5-3FFE7EF3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25E-B72E-4750-9AAB-8BE4F34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DF7-A0FC-4AEF-9B78-F91D20D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4E7-0CA3-4F76-9080-2934564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D9EF4-F46C-48B7-ABCF-D8330879F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