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71501"/>
        <c:axId val="25965603"/>
      </c:barChart>
      <c:catAx>
        <c:axId val="57271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65603"/>
        <c:crosses val="autoZero"/>
        <c:auto val="1"/>
        <c:lblAlgn val="ctr"/>
        <c:lblOffset val="100"/>
        <c:noMultiLvlLbl val="0"/>
      </c:catAx>
      <c:valAx>
        <c:axId val="25965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71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5551-B97D-42D5-AA66-9CCA42F3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2E9-D574-4B95-9E9C-608E504E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70D-CA6B-40D3-AD4F-0B42C795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DC78-ADBD-4FBB-9887-D5EF610A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0AF2-7A03-4F01-926C-74716421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49E-0219-4D70-A9D2-8E2EF422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4D0-FF2A-465C-B9CE-DA06CB6B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65D-3F56-4680-9BA6-A5598F0B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87FF-C19C-47C6-B483-492B96C8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D5D-1F75-44D9-8B7A-13839246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8F40-E4C4-4AAC-8918-6740BB0D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6AF-4B4A-46A1-B2D1-403CD347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22A86-3FEA-47CD-B248-78A3F68EC5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