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43545"/>
        <c:axId val="41011537"/>
      </c:barChart>
      <c:catAx>
        <c:axId val="59743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1537"/>
        <c:crosses val="autoZero"/>
        <c:auto val="1"/>
        <c:lblAlgn val="ctr"/>
        <c:lblOffset val="100"/>
        <c:noMultiLvlLbl val="0"/>
      </c:catAx>
      <c:valAx>
        <c:axId val="41011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43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E40-6BC8-4931-9203-EA4CE26C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B57-76F9-48D3-9BB1-CA4D690F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8DB-30B4-4A5E-BC87-C39791F6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21C-4600-4137-B0E9-11F77A6C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986-D0DF-4B69-B7B2-FF48461D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625-9FE3-492C-929E-7120CDA8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6D9-50DC-4E04-87B2-D5BDA672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A5E-1374-4699-BA18-1A32855B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0BD-85AB-4D2A-9461-9417BAB4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F8F-9E4D-4D78-A789-085BC24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23C-2DCF-4724-A315-FC56131B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A6B-E9D9-42B6-8EEA-7640D5B3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46B8A-47A1-46CF-AEB2-81A8E8766E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