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07868"/>
        <c:axId val="30146997"/>
      </c:barChart>
      <c:catAx>
        <c:axId val="610078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46997"/>
        <c:crosses val="autoZero"/>
        <c:auto val="1"/>
        <c:lblAlgn val="ctr"/>
        <c:lblOffset val="100"/>
        <c:noMultiLvlLbl val="0"/>
      </c:catAx>
      <c:valAx>
        <c:axId val="30146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078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70F9-55E2-405B-84A6-E4403D1A4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A331-5A45-4D57-8B73-DC2630A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3913-C85F-4154-951A-9F07FA761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A996-CB05-4FEB-BFE3-97F13D19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4B52-BA4E-4910-B410-3B8B4EE56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AB14-7E3D-4D40-B5FB-D5FC80E8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CD95-728D-4C94-8FA6-E12CFD9AE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683-8C53-4E20-9994-E3241F77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B0A-6209-4F5C-BA13-B1F499787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4734-5D65-4BFE-93B3-6F24F83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FBC-29BF-4861-A942-B4A637BB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A86-D7F7-4532-8934-DE10E33E1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CC162-14BD-434B-AB49-B23D4808B0F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