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44683"/>
        <c:axId val="86575554"/>
      </c:barChart>
      <c:catAx>
        <c:axId val="58444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75554"/>
        <c:crosses val="autoZero"/>
        <c:auto val="1"/>
        <c:lblAlgn val="ctr"/>
        <c:lblOffset val="100"/>
        <c:noMultiLvlLbl val="0"/>
      </c:catAx>
      <c:valAx>
        <c:axId val="86575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44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2E3-BA22-4E07-8133-0ACE9AE4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589-DBAF-4EAB-96F5-156BD5D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631-F103-4F1C-B6C7-4929A27E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00A-CF6D-4CE4-8D0A-FB678DF7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FFE-11CA-42D1-BC28-D211388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8BD-6E18-4CC7-AFD8-6FA45C7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A02-0CA3-4882-B5B8-8E63AE05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C98-6A05-4D5A-95E3-B395618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604-8F81-4B43-A1B8-454325E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F4A-809E-4531-92D7-E265C22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3A2-DD11-489B-BA62-A8630C5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85E-2228-4890-9AD4-24B3B01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0D52-2515-4D50-90A1-14158FDEB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