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46178"/>
        <c:axId val="81963572"/>
      </c:barChart>
      <c:catAx>
        <c:axId val="52946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63572"/>
        <c:crosses val="autoZero"/>
        <c:auto val="1"/>
        <c:lblAlgn val="ctr"/>
        <c:lblOffset val="100"/>
        <c:noMultiLvlLbl val="0"/>
      </c:catAx>
      <c:valAx>
        <c:axId val="81963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6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23F-78DD-4B2F-B1E8-D961B6CE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694-82EC-4C3A-B8D6-AEDF18A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136-59A3-4ECF-8E09-780606B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5ED-F5D8-48CA-B3E9-25EAC2C9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B1C-1280-4A88-A2F2-9BD21EAC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5EF-E840-4C59-8BBA-82A978AC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FE2-CB0E-4484-B458-6C0DA150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EF7-89C5-4E5B-94CF-3DF94E5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7A7-B55D-4E1D-A949-AFD04A9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435-6E29-452D-A188-F8FFD94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1B0-0FF4-48AA-A301-EEC8424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3AA-682B-41DE-BBC1-7026E30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C001D-18C0-4BE7-BB3C-73F77E819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