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13778"/>
        <c:axId val="60145066"/>
      </c:barChart>
      <c:catAx>
        <c:axId val="213137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45066"/>
        <c:crosses val="autoZero"/>
        <c:auto val="1"/>
        <c:lblAlgn val="ctr"/>
        <c:lblOffset val="100"/>
        <c:noMultiLvlLbl val="0"/>
      </c:catAx>
      <c:valAx>
        <c:axId val="601450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137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CF08-47B7-4E4B-A664-E040D4E2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38C9-E65B-4790-9A51-37775935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EE14-759E-41EF-AE3B-0B91F760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D614-A193-495E-972B-3DFF63331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95FF-3904-4BAD-9DB6-5F3FCFF4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671E-88A9-4EBD-B0AB-C31611A1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D5EA-1F93-4B59-83D6-79EB32B0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8CD9-4490-45B3-A776-9E380151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7238-4B51-48E9-941E-EDA0BE07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3FCE-B5FF-4CCE-A4B0-C9DD2D37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8704-2485-45C1-A737-35D90A35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AFF0-606C-48B4-845A-7597EA99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B7770-B01B-4D5B-BAF9-2EC0D80153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