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91501"/>
        <c:axId val="13272717"/>
      </c:barChart>
      <c:catAx>
        <c:axId val="20191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72717"/>
        <c:crosses val="autoZero"/>
        <c:auto val="1"/>
        <c:lblAlgn val="ctr"/>
        <c:lblOffset val="100"/>
        <c:noMultiLvlLbl val="0"/>
      </c:catAx>
      <c:valAx>
        <c:axId val="13272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91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9FBA-338C-44AE-82BD-FC1CBCA7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DC7-27B3-42BB-8B4B-0D8E1E80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728-329E-456C-B159-35A52BB7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B208-7A85-4766-BBE8-DDA39792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F53-488A-473F-87AF-0BF29923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8F06-A307-4E37-AD82-800C3911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F875-60ED-4D31-8B24-187B523E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7365-B155-48B6-ABC5-D32C2B30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2D7-F083-452B-BB6C-06E49259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5FA4-EBA3-4068-AF9D-5D85F678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83A0-14D0-4873-BAC3-ABA83B16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C501-5A27-4C30-91DC-4081BF1F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DF518-ECD1-4AD3-A7AD-9EBB1AA948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