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836925"/>
        <c:axId val="1512881"/>
      </c:barChart>
      <c:catAx>
        <c:axId val="328369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2881"/>
        <c:crosses val="autoZero"/>
        <c:auto val="1"/>
        <c:lblAlgn val="ctr"/>
        <c:lblOffset val="100"/>
        <c:noMultiLvlLbl val="0"/>
      </c:catAx>
      <c:valAx>
        <c:axId val="1512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369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21F7-0313-42AC-9DB5-5FC9D5BD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BC67-F311-4595-A805-098F2005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3CC6-EE2B-4AF2-8315-7B222516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1B4-2101-47D9-92BB-BE6904A1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9B0-6B3D-4543-90FD-6BFFE863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2AB5-4978-4987-B37D-4022A8AB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282F-AFF2-4129-A236-BB4C2323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B00-5D7A-4094-B9C5-7B0DA2C0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CD8-2C0A-453A-AE45-ED532E8D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D00-1BB7-4DD7-B0A3-9CF69A22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0CD6-5ED7-4342-8F26-5960CF13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2FA3-9E91-4183-849A-41D6924A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F83E3-31BC-4FDE-8D98-40D26D0F9F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