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6557"/>
        <c:axId val="91649653"/>
      </c:barChart>
      <c:catAx>
        <c:axId val="27966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9653"/>
        <c:crosses val="autoZero"/>
        <c:auto val="1"/>
        <c:lblAlgn val="ctr"/>
        <c:lblOffset val="100"/>
        <c:noMultiLvlLbl val="0"/>
      </c:catAx>
      <c:valAx>
        <c:axId val="91649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6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3BB-9EA5-413D-9B4D-2A0ED03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D0C-01E0-4BB5-9A62-9A1078B5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66D-BF97-4C41-8FEB-DDB732D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7D0-B6C9-4344-BE81-DF176BB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87C-A6DD-4379-9994-CB6DC8C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F07-942F-4E09-B9ED-3291B231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0A9-FC2E-444F-809F-AC64F74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43D-3E05-48FA-AB5F-C930527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E69-8EBD-4144-A873-3CBD30FA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310-3BC7-49DC-A241-987CF2D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64D-8EAF-4481-B077-429C2B5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D73-635F-4638-B0D6-9F62BE2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A49E-F5F8-4FB8-BCAC-185FC0DC9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