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07679"/>
        <c:axId val="23212030"/>
      </c:barChart>
      <c:catAx>
        <c:axId val="74307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12030"/>
        <c:crosses val="autoZero"/>
        <c:auto val="1"/>
        <c:lblAlgn val="ctr"/>
        <c:lblOffset val="100"/>
        <c:noMultiLvlLbl val="0"/>
      </c:catAx>
      <c:valAx>
        <c:axId val="23212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07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B29-1169-4D2D-A001-B98E198F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93B-1732-4EC5-9B49-482F12DD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E9D-B2B9-46AD-9664-17061110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68D-0D07-40B5-9058-D6E5B45F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C21-2DD1-4EEC-89B1-7B48B396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C29-2D2D-4102-BBB4-AF9488CE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CF7-57F5-476E-A936-68F33B46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703-B329-4028-A875-C8AF8477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A50-ACCE-4B05-8539-00CD4FB3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10D-21E1-4AE4-8002-82B8895E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253-3BA3-4E65-8F60-A7C2D5AE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35C-455D-4318-8800-C0003ACB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315FE-5741-4076-8D89-1C3AFBEFB6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