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29153"/>
        <c:axId val="150555"/>
      </c:barChart>
      <c:catAx>
        <c:axId val="81729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55"/>
        <c:crosses val="autoZero"/>
        <c:auto val="1"/>
        <c:lblAlgn val="ctr"/>
        <c:lblOffset val="100"/>
        <c:noMultiLvlLbl val="0"/>
      </c:catAx>
      <c:valAx>
        <c:axId val="150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9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813-26F3-42E8-9C66-E30C1ECC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3C6-A965-4927-8268-764CA402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A18-D22C-40AD-A0AF-23988B8D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BF5-DA14-487D-8A81-64D6D361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485-73FF-4789-A9FD-1D36C4B8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E5F-7948-4F79-9659-475AD2F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87C-D261-47B7-8133-6AB4121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C2E-244A-48F5-9181-55F44DD5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2FC-0099-463D-ABC6-18E5EDC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0F9-6689-4E6F-A161-8C3E6C3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D56-EA29-4C6B-8E67-DE5F29B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4DC-32E5-40AF-B895-D5B77FA1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F9A9D-D86F-469D-9FDC-5C83D31BB6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