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719012"/>
        <c:axId val="29901480"/>
      </c:barChart>
      <c:catAx>
        <c:axId val="837190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901480"/>
        <c:crosses val="autoZero"/>
        <c:auto val="1"/>
        <c:lblAlgn val="ctr"/>
        <c:lblOffset val="100"/>
        <c:noMultiLvlLbl val="0"/>
      </c:catAx>
      <c:valAx>
        <c:axId val="299014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7190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AEE1-FAC2-412D-A4E6-3B2D1C064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1DD7-93F2-48CF-BF6A-97010A142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10FF-DF81-4F8A-8A74-C69D9A0CC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1655-0507-43A7-93F7-D0A4D4B28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56D6-9AB2-4D7F-B5ED-594377F3D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BD5A-7062-4DC9-BC8B-1E5C3A722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8D6B-B63A-42D6-BD8A-4DA7F276D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0CD1-DBB6-4D5B-8490-1A1928C95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F455-49D9-4C54-BCA8-10AFCC32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7F3A-12A4-434D-AFB1-D94E8A02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6CC4-67A9-4775-B22C-4569E55E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5AA0-8D58-4863-9EA6-8001F1B3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0876B4-13C6-40CD-961B-C7C68FD7F3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