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40691"/>
        <c:axId val="5120329"/>
      </c:barChart>
      <c:catAx>
        <c:axId val="94340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0329"/>
        <c:crosses val="autoZero"/>
        <c:auto val="1"/>
        <c:lblAlgn val="ctr"/>
        <c:lblOffset val="100"/>
        <c:noMultiLvlLbl val="0"/>
      </c:catAx>
      <c:valAx>
        <c:axId val="51203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40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6E4A-5AE2-4887-9F6E-D4DCD2277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00D0-1BF8-48DB-B5A4-90576B29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604-8760-47B7-8BF3-2C42E969C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DD22-BE7A-4CD7-A297-6C962D48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471C-103C-46E9-8924-23B61025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FF7-294E-42E6-8655-A652E2BF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09A-66B4-4640-ACD1-796D2A96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807-E4E2-470D-A65C-CBCBB17D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24D-CE08-4B2C-A404-3B02DE1B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87C2-207A-41B6-A8CE-70A3F69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5EA-844F-46B0-B4A5-BCA330D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C3F1-BECF-4737-A2EF-D8041A24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2F4F5-ABCA-4714-B76B-47B08DDC42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