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86459"/>
        <c:axId val="52247364"/>
      </c:barChart>
      <c:catAx>
        <c:axId val="95486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47364"/>
        <c:crosses val="autoZero"/>
        <c:auto val="1"/>
        <c:lblAlgn val="ctr"/>
        <c:lblOffset val="100"/>
        <c:noMultiLvlLbl val="0"/>
      </c:catAx>
      <c:valAx>
        <c:axId val="52247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86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643-EE72-493F-95F7-C16BBC22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229-F8AA-4B65-9F14-4B6EFEE4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55A-D3A7-4DDB-BCFD-C0E27E09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B1C-A5A1-4250-93F5-AC87BFF2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CF7-35B1-40F9-A830-EB6005E8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B7D-71CF-4155-857C-6ACEF269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25F-BC69-4517-A56B-007B19E4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670-56A6-4005-B4D1-15C49C71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6AF-D1CB-4575-823F-519B814A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CA7-93F9-413F-8906-C290099D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45F-5491-41A6-8137-A9D8D26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50E-9D9B-44B9-9CAD-08B942F8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18E57-BA35-4193-A0F6-03FCCC09D5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