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62988"/>
        <c:axId val="59942793"/>
      </c:barChart>
      <c:catAx>
        <c:axId val="34662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42793"/>
        <c:crosses val="autoZero"/>
        <c:auto val="1"/>
        <c:lblAlgn val="ctr"/>
        <c:lblOffset val="100"/>
        <c:noMultiLvlLbl val="0"/>
      </c:catAx>
      <c:valAx>
        <c:axId val="59942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62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209-975B-4FAA-83E4-AC38D885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333-8E7D-4702-8D0C-38C5C03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D5E-306E-4106-BE3F-16A12BD4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B53-BD68-4118-B7DB-2A4D9417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843-3AC2-45F9-A567-0848599B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468-0421-4F75-897C-D10E548B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257-4FF1-4C66-9BC1-41D1B02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2A9-7310-4B52-A90F-1558DBDA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43F-E0B1-4C5C-BC00-4F72CEDC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500-ED82-4688-A9AF-30E934B4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5B1-0A1A-4578-8E08-27DB3A99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2D7-0B9C-4C40-BD8C-D3E35EE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3AE2D-54BE-4659-A247-B5D3B8D97F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