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35067"/>
        <c:axId val="67256341"/>
      </c:barChart>
      <c:catAx>
        <c:axId val="82535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256341"/>
        <c:crosses val="autoZero"/>
        <c:auto val="1"/>
        <c:lblAlgn val="ctr"/>
        <c:lblOffset val="100"/>
        <c:noMultiLvlLbl val="0"/>
      </c:catAx>
      <c:valAx>
        <c:axId val="67256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35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A16A-C91E-4376-A579-8DCEC897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16D-0412-4675-8153-050900D3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2AF-459F-40BD-9652-3E0C39F7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091-F2B5-4D05-A75B-4D013B5B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047-83B5-4CCC-9339-D367EA80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616-3CD1-4252-80C2-6178D6BD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CBD-325C-4EEF-A882-C71389C2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AF8-2BE0-4342-B92C-CE598FA4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03F-42C4-47C3-9429-12B882DD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6FB-8FF7-444D-AEA9-A7D26989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F0E9-2A1D-462B-92BA-831D3954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34A-B50C-45F5-BD08-C2C5D3DE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E2271-2588-4F7B-B452-8CDCE2169F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