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58778"/>
        <c:axId val="17283268"/>
      </c:barChart>
      <c:catAx>
        <c:axId val="56258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83268"/>
        <c:crosses val="autoZero"/>
        <c:auto val="1"/>
        <c:lblAlgn val="ctr"/>
        <c:lblOffset val="100"/>
        <c:noMultiLvlLbl val="0"/>
      </c:catAx>
      <c:valAx>
        <c:axId val="172832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58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304-3D7E-4171-B39E-6F6CC36A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8C4-F029-453F-B9BC-8179990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A28-B4DA-4832-8CC6-B454C7AB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8EC-54CB-4752-8014-94F02C6C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FF63-A373-46BF-BDAF-E70B52E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44F-5781-4F33-BF0C-D91E678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17-F0EF-4A47-BEFE-B87E2DE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5BC-33FE-4D53-A8BF-856ED01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3AD-90D0-46DE-B753-0C57304A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AD5-15A0-4674-9201-8EA6E9CF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3A2-931A-4966-BCC0-50453CD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618-CBA4-4BCE-A5CE-6DBB42F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52432-7D4D-4EB8-AD32-56BC8A322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