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260311"/>
        <c:axId val="28400158"/>
      </c:barChart>
      <c:catAx>
        <c:axId val="882603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00158"/>
        <c:crosses val="autoZero"/>
        <c:auto val="1"/>
        <c:lblAlgn val="ctr"/>
        <c:lblOffset val="100"/>
        <c:noMultiLvlLbl val="0"/>
      </c:catAx>
      <c:valAx>
        <c:axId val="284001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603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EAF-E4E4-490C-80ED-74D2F81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E96-B07C-4C34-B1EA-8A5C6296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503-7712-4D9A-8211-861A97EBB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7D8E-4124-42B2-9FD0-FA7477FB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FFB-4293-4DED-B25F-329D0A33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7DE-CEC9-4109-908E-E38C2739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728-4EAB-407B-B0DA-0EBF821D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6593-E280-421F-8324-82D3452A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B5A-AEAA-41A6-846C-FD5CADC4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0C50-8642-4F22-85A3-B33C022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B49-4C2E-4003-A389-BE6841A0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24A-4FDA-4E8C-B8E2-3244BC08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921E5-4E0D-45AC-B878-B9C3772CA7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