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090218"/>
        <c:axId val="59926441"/>
      </c:barChart>
      <c:catAx>
        <c:axId val="900902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926441"/>
        <c:crosses val="autoZero"/>
        <c:auto val="1"/>
        <c:lblAlgn val="ctr"/>
        <c:lblOffset val="100"/>
        <c:noMultiLvlLbl val="0"/>
      </c:catAx>
      <c:valAx>
        <c:axId val="599264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0902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A019-539C-48CB-BF57-F86CCA9D7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90A8-3A2F-4795-BFD6-10E2BFC5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F4C6-C166-4111-A142-6D3E14881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316A-31FD-4EFA-8308-8D2FFF14D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4604-D7C3-4163-9E0B-53B5247A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A323-2EF0-498B-8DDA-A8B83D69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5AC4-952F-4794-BB45-A0FD5A25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4D1A-972E-4C66-908E-7E660D70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DB3F-6932-428A-BACD-EC0725FE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E812-6C92-43F0-BCFB-A3D5FFDF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86AD-E886-4388-9285-E24C08EE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4242-36E0-49AA-94E8-21C4D35A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2BDCB7-4A2A-4183-B5EC-29EB7E6F26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