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53998"/>
        <c:axId val="47963932"/>
      </c:barChart>
      <c:catAx>
        <c:axId val="10553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3932"/>
        <c:crosses val="autoZero"/>
        <c:auto val="1"/>
        <c:lblAlgn val="ctr"/>
        <c:lblOffset val="100"/>
        <c:noMultiLvlLbl val="0"/>
      </c:catAx>
      <c:valAx>
        <c:axId val="47963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53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4D-C349-49D7-BE4A-8B64572D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00C-4284-4CFC-9E28-D28063B1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9FC-C6DF-478E-98D3-452FB00A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8FF-D944-467B-BF49-FC74FDC1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A5E-3156-4F9B-885C-0E37273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A9D-7B17-4975-9851-7B0897A1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796-10CC-4242-A861-F5CF340B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431-8C5D-488E-896B-7AF42F92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91D-CBFB-4CCE-8D76-13C7C58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3A-BCCC-409B-BC00-4381F6F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F14-0A97-4317-9C3A-8EBB58E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F56-38E3-4D18-8D6B-D798F5B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00275-E04E-4C6D-9CC8-36777BFC3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