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08300"/>
        <c:axId val="34427097"/>
      </c:barChart>
      <c:catAx>
        <c:axId val="19408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27097"/>
        <c:crosses val="autoZero"/>
        <c:auto val="1"/>
        <c:lblAlgn val="ctr"/>
        <c:lblOffset val="100"/>
        <c:noMultiLvlLbl val="0"/>
      </c:catAx>
      <c:valAx>
        <c:axId val="34427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08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E04-A1CC-48C8-9421-BAAD1418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39B-F320-4DEE-885D-E33BB8BD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CE7-40D4-4D96-93C9-8612D8A5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E10-2DCB-4E73-9F7D-FF70D47B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C30-F45D-4B51-953D-7DF83D8C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971-FC3C-4B80-86BF-15AB5BB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295-19D5-4843-AF40-51CB80D3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C82-9509-4D31-9CE1-354C5B6C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3AC-DF74-4932-B652-5961CBD4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908-C528-494C-B1E3-11846F1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3E1-C1AC-45A8-BF3B-131046C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3DE-5EA2-4328-940C-678806B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C7D7A-723F-4791-AF44-378F5D445A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