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296870"/>
        <c:axId val="88684902"/>
      </c:barChart>
      <c:catAx>
        <c:axId val="652968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684902"/>
        <c:crosses val="autoZero"/>
        <c:auto val="1"/>
        <c:lblAlgn val="ctr"/>
        <c:lblOffset val="100"/>
        <c:noMultiLvlLbl val="0"/>
      </c:catAx>
      <c:valAx>
        <c:axId val="886849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2968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F42B-F212-422A-92F4-5137C3B08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CF44-DA9B-495B-BC40-15BA30162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00C7-2490-4C92-8D59-1EC5B5AC2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BF5B-F70F-4436-AECF-5E1262EE0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F481-0FC8-41D0-9720-171F0CFE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116B-8865-4A43-926F-EC0F6C214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ACEF-23E4-466E-AE92-8DE540EAC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F3B1-7F21-4C7A-B8AF-37CD62571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88C3-CB43-4E71-89DD-1A0F72837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20A2-065A-47B0-93B5-B85DB7DA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FDF2-E8DA-4F5E-A44A-7A07217E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7E9E-2BFC-4B22-838B-28D26B79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7E0FF3-7113-4365-AFDB-D98E8526935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