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10350"/>
        <c:axId val="8850882"/>
      </c:barChart>
      <c:catAx>
        <c:axId val="91810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0882"/>
        <c:crosses val="autoZero"/>
        <c:auto val="1"/>
        <c:lblAlgn val="ctr"/>
        <c:lblOffset val="100"/>
        <c:noMultiLvlLbl val="0"/>
      </c:catAx>
      <c:valAx>
        <c:axId val="8850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10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F12-0458-408C-9931-FDD3E64E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67C-4018-4680-89FD-79553ED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7CF-67DC-4D03-A243-1385486B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FE3-58C7-4637-A455-704C69D0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FAA-B849-46DF-8329-C8EC0EA1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173-2669-47C6-93C2-A5B6940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07A-0D26-4ECB-8D54-92E3B49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8F1-BEDD-47BD-9126-3B40000B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0A4-C3F8-4B6D-BB78-FCDA7E09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497-4A53-4B0F-930F-9424443B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6E4-7BF6-41FC-A013-A497FCCF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0A4-6112-41EB-9912-DEED7885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F10FB-B63E-411A-BE4B-D09F1EEB91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