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28353"/>
        <c:axId val="55501646"/>
      </c:barChart>
      <c:catAx>
        <c:axId val="47728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1646"/>
        <c:crosses val="autoZero"/>
        <c:auto val="1"/>
        <c:lblAlgn val="ctr"/>
        <c:lblOffset val="100"/>
        <c:noMultiLvlLbl val="0"/>
      </c:catAx>
      <c:valAx>
        <c:axId val="55501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28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23D-EE1E-4EF4-8A86-E2BCB9EB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DD0-F000-4CB6-B4A6-2B09870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3D8-A2F2-43A1-A4E2-8137D7CD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4A6-2DFA-4274-BABA-B966055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90F-AC1B-4102-9029-15F982FB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53B-2A1D-4DEE-AD9E-0C342B1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46F-B973-4751-9577-64F7075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00F-13A4-4FB3-840B-2A3EB52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413-187F-4021-B5D5-12AF178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17A-BE3A-491D-A559-E838682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339-B43A-4471-887A-5DD6BCBA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717-3C4A-4FB9-B4A5-DBBE3B9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4F4F3-FB3B-4524-BEF9-C40E90284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