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2186"/>
        <c:axId val="11999666"/>
      </c:barChart>
      <c:catAx>
        <c:axId val="7772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99666"/>
        <c:crosses val="autoZero"/>
        <c:auto val="1"/>
        <c:lblAlgn val="ctr"/>
        <c:lblOffset val="100"/>
        <c:noMultiLvlLbl val="0"/>
      </c:catAx>
      <c:valAx>
        <c:axId val="11999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2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5A7-FCDD-4A9F-8B2C-86F1B303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C7B-472A-4021-A117-18F6E603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289-AE36-4D12-81FC-3377C9E5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328-C600-4BF8-899F-C0BD8D17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915-CB8C-47EF-A74D-4009AA8B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938-DD56-477C-98BA-1A855312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7E6-28B5-4D0F-B476-4D49EE2B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D84-E68D-48A3-85AF-F49D39C8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9658-1298-4DEB-B9C6-FCCB7A60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B05-795B-4480-892F-FF0C1B42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872-620A-49E4-A53A-F154B4C1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C73-BD67-4B2A-A003-50352376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EB30D-BC1E-4871-886D-90918BBBB3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