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984048"/>
        <c:axId val="71180624"/>
      </c:barChart>
      <c:catAx>
        <c:axId val="219840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180624"/>
        <c:crosses val="autoZero"/>
        <c:auto val="1"/>
        <c:lblAlgn val="ctr"/>
        <c:lblOffset val="100"/>
        <c:noMultiLvlLbl val="0"/>
      </c:catAx>
      <c:valAx>
        <c:axId val="711806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9840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1336-8717-436B-9E25-102924D64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8AC5-ED9D-4D41-B967-C6369B6B3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54CA-FE54-4A5E-B002-9E562DB87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09DD-F856-4F3B-82E0-6E76AFE51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870E-D243-4B3A-808D-210EA0244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8C62-3439-429C-B7DA-A7F469CB7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FE48-74C7-43E5-84D5-96C4DD526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6D17-3053-4822-BD83-BC964DC65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7939-41E0-458F-A890-6F5466884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18B4-86E8-46BF-B71A-4E2B3B22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81F9-A2D4-4D3B-A244-386E7715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D5FB-200F-4364-8090-8AA32E27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8E9199-6245-4D14-B925-808611A8761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