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419450"/>
        <c:axId val="1061121"/>
      </c:barChart>
      <c:catAx>
        <c:axId val="854194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61121"/>
        <c:crosses val="autoZero"/>
        <c:auto val="1"/>
        <c:lblAlgn val="ctr"/>
        <c:lblOffset val="100"/>
        <c:noMultiLvlLbl val="0"/>
      </c:catAx>
      <c:valAx>
        <c:axId val="10611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4194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BB9D-7BAA-4BE6-A7C8-01DCFD0BD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1AFD-D5EC-4331-9AE5-1D1586B1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A654-2C3E-4193-AA79-1022C3F94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EC9E-6A68-4B93-B898-8AFCB48CF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A1DD-3212-48D5-94D2-F8558904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07B4-2F1D-4DBE-95B2-E19A3726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5C28-B35F-4689-BA62-20F6B7AC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EAA1-98F1-4AEE-9E5E-C909C2F4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AC98-994E-4ED7-85E7-6F5A3CB9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11F7-BD4B-4C89-8929-5D46811E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DAA3-C218-447E-A557-9D437F52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87A7-42D0-4834-BE7A-F5B6F582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D8625D-1EFB-4DF3-8A71-4EA01A311C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