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1584"/>
        <c:axId val="58042959"/>
      </c:barChart>
      <c:catAx>
        <c:axId val="403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42959"/>
        <c:crosses val="autoZero"/>
        <c:auto val="1"/>
        <c:lblAlgn val="ctr"/>
        <c:lblOffset val="100"/>
        <c:noMultiLvlLbl val="0"/>
      </c:catAx>
      <c:valAx>
        <c:axId val="58042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880-CC5E-41EE-AEBE-0163D0DD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F73-73EE-45C8-9028-92F0F57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707-72EC-448A-A633-83C10B5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EA8-E222-458E-A62F-8FC90226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49E-94A7-4438-BE0D-568481CE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747-FD20-4F39-84E1-D87F8A2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7AC-4ACC-4EF0-9181-98BFF0D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539-F4A4-4404-B70E-8E4CE304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24A-3473-4CCB-B1D6-60093DA5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C41-9AE0-44C1-A0F8-BA444654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629-15C9-4C6D-A5EA-D2D8C82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D30-F849-483F-8249-78B0EAD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3A9D7-C361-4198-A7F6-0F1B1D68A8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