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65693"/>
        <c:axId val="98643987"/>
      </c:barChart>
      <c:catAx>
        <c:axId val="11065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3987"/>
        <c:crosses val="autoZero"/>
        <c:auto val="1"/>
        <c:lblAlgn val="ctr"/>
        <c:lblOffset val="100"/>
        <c:noMultiLvlLbl val="0"/>
      </c:catAx>
      <c:valAx>
        <c:axId val="98643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65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E8B-78AC-4490-B7BE-D046FFF2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926-1720-4545-859B-C912946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4B1-5DCE-4455-B436-15CA347C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F27-3516-4E5B-B876-9A369027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FCC-A52F-49BE-9A15-8BA937E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E5C-FEEE-427B-8533-67907584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425-9F5B-4722-918D-DF8C0BE7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876-139F-4F14-A6F5-22D85352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200-5375-4999-AC36-287A2DA6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F3E-9C48-43A1-8CF2-5EDE9657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F50-35FF-4848-89FE-7FE0780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2A4-85BC-46E2-9736-5759C2F4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EF650-F534-44ED-B964-CD7B0E3314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